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FCDD-F189-4CE9-8672-EED3DD69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329E-7487-4CDA-A02B-87A53DB6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7170-4BA1-4B86-AEB2-8453E7BD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8B70-D2BA-4083-9462-07EF1FE5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8461-6370-48F7-B376-9BC5169E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C356-0DB1-4B20-96D7-3128399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D77-CB0A-461C-B5E5-14D65F7D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D47A-6560-453F-B242-AA96B66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559D-874A-4F95-8241-3496CB45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DC0-6D27-4409-BBAD-AD094015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1BF4-5E2B-43E9-BD24-E002FC4D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57D8-E795-428F-83BE-A441827D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483-32A3-43A1-A693-0EB692E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9903-67E8-469C-B216-F5F6435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6DBE-7684-4825-8827-0CC7A9D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77D6-82F1-46B4-8C3A-BBAE4374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EEE-B2D1-4E23-B01C-B2F9A5F3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048D-8233-4EB1-B628-2E75FB3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C626-68C8-465D-9100-D403CB97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9160-EAB3-4BB1-91D9-DDF938A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5964-97C9-45F8-9A24-7E52184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E236-CE47-4800-910A-543E4D6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5C7B-C6F9-42C5-9BA5-AB08554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7F26-7C00-4DFB-8936-2CFBAA9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A63D-5BCF-4200-B5C5-A0FBF9095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D5C-BDA8-499D-B092-37B919D70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Тема: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Значение газа и перспективы развития газовой отрасли в Казахстане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835280" y="3024360"/>
          <a:ext cx="5460840" cy="35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024360"/>
                    <a:ext cx="5460840" cy="35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Действующие перерабатывающие мощности по производству газ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828800"/>
            <a:ext cx="771192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в республике действуют три газоперерабатывающих завода (ГПЗ) общей проектной мощностью переработки 6,85 млрд. 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газа в год (Табл. 2). К 2010 году предполагается общее увеличение мощностей переработки газа до уровня 28 млрд. куб.м в год за счет реконструкций и нового строительства объектов переработки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3357720"/>
          <a:ext cx="8069400" cy="3209760"/>
        </p:xfrm>
        <a:graphic>
          <a:graphicData uri="http://schemas.openxmlformats.org/drawingml/2006/table">
            <a:tbl>
              <a:tblPr/>
              <a:tblGrid>
                <a:gridCol w="1811160"/>
                <a:gridCol w="1043280"/>
                <a:gridCol w="1042920"/>
                <a:gridCol w="1042920"/>
                <a:gridCol w="1042920"/>
                <a:gridCol w="1042920"/>
                <a:gridCol w="1043280"/>
              </a:tblGrid>
              <a:tr h="461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ГП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 выработано в 2002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ая мощность после реконстр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прир. газу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жиж. газу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. газа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жиж. газа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прир. газу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жиж. газу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кий ГПЗ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адный Казах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сматривается технологическая модернизация без расширения мощности перерабо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нгизский ГПЗ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ырау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64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нажолский ГПЗ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юб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"/>
          <p:cNvSpPr/>
          <p:nvPr/>
        </p:nvSpPr>
        <p:spPr>
          <a:xfrm>
            <a:off x="611280" y="2997360"/>
            <a:ext cx="7632720" cy="287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def6"/>
                </a:solidFill>
                <a:latin typeface="Arial"/>
              </a:rPr>
              <a:t>Таблица 2: Характеристика действующих газоперерабатывающих заводов Р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амика производства и потребления сжиженного газа с учетом прогнозных показателей до 2010 года, тыс. тонн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65120" y="1600200"/>
          <a:ext cx="82137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37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ранспортировка га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798984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нспортировка природного газа осуществляется по системе магистральных газопроводов, которые проходят по территории восьми областей Казахст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щая протяженность магистральных газопроводов: около 10 тыс. км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4 году общий объем транспортировки газа по магистральным трубопроводам составил более 110 млрд. м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ерспективы: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величение объемов международного транзита и рационального использования внутренних ресурсов газа за счет развития мощностей по транспортировке и переработке газ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ближайшие годы планируется построить семь новых магистральных трубопроводов, в том числе, для экспорта газа из недр казахстанского шельфа Каспийского мор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ерспективы развития газовой отрасли в Казахстан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В ближайшие годы планируется достижение следующих целей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Обеспечение безаварийного и бесперебойного снабжения населения и промышленных предприятий природным газом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Достижение энергетической независимости страны по поставкам электроэнергии, природного и сжиженного газ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Развитие транзитных мощностей газотранспортных магистралей республики для обеспечения возрастающих объемов транзита природного газа и более эффективное использование имеющихся активов трубопроводной системы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Обеспечение максимальной утилизации попутно добываемого газа на месторождениях и создание возможностей для дальнейшего наращивания мощностей по добыче нефти и газового конденсата с обеспечением необходимых экологических требований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экспортного потенциала страны по поставкам природного и сжиженного газа, а также сопутствующих компонентов добываемого газа и продуктов глубокой переработки газ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налоговых поступлений в бюджет республики (в настоящее время налоговые поступления от нефтегазового сектора составляют около 40%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занятости населения и обеспечение газовой отрасли квалифицированным кадровым персонало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Выполнил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: </a:t>
            </a:r>
            <a:r>
              <a:rPr b="0" lang="ru-RU" sz="3600" spc="-1" strike="noStrike">
                <a:solidFill>
                  <a:srgbClr val="dcdce8"/>
                </a:solidFill>
                <a:latin typeface="Arial"/>
              </a:rPr>
              <a:t>Абдрахманов Бауржан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 !!!!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з- источник энергии и экспортный тов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м добычи и основные месторождения газа в Казахст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анспортировка г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спективы развития газовой отрасли в Казахста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иродный газ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родный газ является смесью углеводородов, состоящей главным образом из представителей метанового ряда и содержащей небольшие добавки других газов, таких, как азот, двуокись углерода, сероводород и иногда гелий. Обычно основным в природном газе является метан, однако иногда имеются значительные примеси этана и, в меньшей степени, более тяжелых углеводородов. В природе встречаются газы, почти целиком состоящие из двуокиси углерода, однако такие газы не обладают свойством горюче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личают два типа природных горючих газов – сухие и влаж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ухие газ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остоят в основном из метана и иногда содержат также этан и пропан, однако они не содержат более тяжелых углеводородов, которые могут конденсироваться при сжа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лажные горючие газ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одержат различные количества природного газолина, пропана и бутана, которые можно извлечь посредством сжатия или экстрагир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Области применения природного газ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15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 используется в производственных и бытовы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ыту газ используется для отопления жилых домов, приготовление пищи, заправки т/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нных целях газ используется в различных технологических процессах (в доменных печах, ТЭС, и т.д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е значение имеет использование природного газа и сопутствующих элементов добываемого газ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лектроэнергетике (в развитых странах до 35% электроэнергетических ресурсов вырабатывается с использованием природного газа; в Казахстане планируется к 2010 году увеличить долю газа в потребляемом топливе с 13,4% до уровня 21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ефтехимической промышленности (газ, добываемый попутно с нефтью, представляет собой ценное химическое сырье для производства, к примеру, каучука, аммиака, этилового спирта и других синтетических продук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 полиэтиленовых труб и других изделий из пластмасс (так, в тенгизском газе содержание этана, необходимого для получения этанола и полиэтилена, содержится до 11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 элементарной серы и минеральных азотных удобрений (сера и азот являются сопутствующими элементами добываемого га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спортно-ориентированность добычи газа в Казахстане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83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аз как стратегический товар для Казахстана является экспортно-ориентированны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укция нефтегазового сектора экспортируется сегодня в десятки стран по всему Евразийскому континенту и стабильно остается основной статьей казахстанского экспорта: ее доля в общем объеме экспорта страны в настоящее время составила более 40%. Крупнейшими импортерами казахстанской нефти, газа и продуктов переработки нефти являются Россия, Великобритания, Украина, Швейцария и Итал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спективы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ращивание экспортного потенциала от реализации природного и сжиженного газа, а также продуктов их перерабо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тегия развития Республики Казахстан до 2030 года содержит четко выраженный энергетический уклон. В ней говорится о необходимости "быстрого увеличения добычи и экспорта нефти и газа с целью получить доходы, которые будут способствовать устойчивому экономическому росту и улучшению жизни народа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захстан планирует в ближайшие годы стать третьим по объему экспорта газа поставщиком в бывшем СС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, по окончанию строительства газоперерабатывающего завода в Оренбурге, Казахстан будет способен экспортировать около 30 млрд. 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иродного газа в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2010 году экспортный потенциал может возрасти на сумму около 110,6 млрд. тен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ходя из заявления министра энергетики и минеральных ресурсов Казахстана В. Школьника к 2015 году планируется добыть 40 млрд. 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, с возможным увеличением экспортных поставок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24000" y="404640"/>
            <a:ext cx="849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пасы газа в Казахстан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5120" y="1628640"/>
            <a:ext cx="41338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По последним оценкам международных экспертов 37,6%  доказанных мировых запасов природного газа (147,5 трлн. куб. м.) сосредоточено на территории бывшего Советского Союза. При этом Казахстан по разведанным запасам и прогнозным ресурсам природного газа находится в числе 4-х ведущих стран СНГ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Объемы разведанных запасов природного газа в Казахстане составляют 1,8 трлн. куб. м. Однако на основание обновленных данных и Государственного баланса запасов полезных ископаемых по состоянию на 1 января 2002 года с учетом оцененных запасов газа по месторождениям казахстанского сектора Каспийского моря, суммарные запасы составляют около 3,3 трлн. куб. м. При этом перспективные и прогнозные ресурсы газа оцениваются в 6,0 – 8,0  трлн. куб. м., что связано в основном с освоением ресурсов Каспийского моря (рис. 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643280" y="1484280"/>
          <a:ext cx="399096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484280"/>
                    <a:ext cx="39909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4859280" y="4508640"/>
            <a:ext cx="360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2720" y="4365720"/>
            <a:ext cx="3095640" cy="3585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таточные запасы на суш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4797360"/>
            <a:ext cx="331164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ценочные запасы на Каспийском шельф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19640" y="5229360"/>
            <a:ext cx="3168720" cy="3585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гноз суммарных ресур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486900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9280" y="5300640"/>
            <a:ext cx="360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Месторождения га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по всем категориям месторождений зарегистрировано около 130 месторождений с разрабатываемыми и предварительно оцененными запасами газа, из ни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1 газовы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 газоконденсатны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нефтегазоконденсатны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1- нефтегазовые и прочие с малыми содержаниями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этом, в разработке находятся 44 месторождения, содержащие более 80% извлекаемых запасов углеводородных газ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вляющая часть месторождений находится на западе страны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зовые месторождения в Кызылординской, Жамбылской и Южно-Казахстанской областях имеют при сравнительно небольших запасах газа большое локальное значение для газификации местных территор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0,4% всех запасов свободного газа сосредоточено на месторождении Карачаган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324000" y="260280"/>
          <a:ext cx="86169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61696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быча природного газа в Казахстане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 последние годы отмечен значительный рост добычи газа в Казахстане. Если до 2000 года объемы добычи не превышали 10 млрд. куб. м газа в год, то в 2004 г. в стране было добыто 20,5 млрд. куб. м га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нутреннее потребление составляет около 5 млрд. куб.м ежегодн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50920" y="4076640"/>
          <a:ext cx="8497800" cy="2265480"/>
        </p:xfrm>
        <a:graphic>
          <a:graphicData uri="http://schemas.openxmlformats.org/drawingml/2006/table">
            <a:tbl>
              <a:tblPr/>
              <a:tblGrid>
                <a:gridCol w="1914120"/>
                <a:gridCol w="732600"/>
                <a:gridCol w="729720"/>
                <a:gridCol w="732600"/>
                <a:gridCol w="731160"/>
                <a:gridCol w="732600"/>
                <a:gridCol w="729720"/>
                <a:gridCol w="732600"/>
                <a:gridCol w="731520"/>
                <a:gridCol w="7311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, млрд. 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ушу населения, млрд. 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468360" y="3645000"/>
            <a:ext cx="7488360" cy="288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блица 1: Объемы добычи естественного газа в Казахст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44:12Z</dcterms:created>
  <dc:creator>BaurZHAN</dc:creator>
  <dc:description/>
  <dc:language>en-US</dc:language>
  <cp:lastModifiedBy>BaurZHAN</cp:lastModifiedBy>
  <dcterms:modified xsi:type="dcterms:W3CDTF">2005-12-12T19:24:55Z</dcterms:modified>
  <cp:revision>5</cp:revision>
  <dc:subject/>
  <dc:title>Тема: Значение газа и перспективы развития газовой отрасли в Казахстане.</dc:title>
</cp:coreProperties>
</file>