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7C48-87EA-46A3-89FF-ACFBC538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FB98-A17C-437E-9AB2-F96D4B5B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FEE8-6B0D-4D04-8BE8-13C179AD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7664-927A-4358-BEB7-FD10D264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A3A9-C01E-4B85-A43E-FC211865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80D8-91A0-42C7-BCCF-DE47E660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B07C-918D-4668-AA44-5CFEABED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CF6D-5A97-43DB-AE03-41BE4D26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9BBE-3A06-45CF-B316-278069C9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A008-9963-4777-9FF4-29281BBB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7E49-1092-47B0-9150-532FE865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55AB-46A1-4209-8626-B6A32C50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57E6-92BC-4A4D-A581-8DE6F71DA2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620280"/>
            <a:ext cx="7774200" cy="59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урсовая работа  по теме: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«Социально-экономические тенденции развития Японии»</a:t>
            </a:r>
            <a:br>
              <a:rPr sz="48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полнила студентка 1 курса 12 группы ТД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лодышева М.С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4500720" cy="4392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572000" y="189000"/>
            <a:ext cx="4572000" cy="345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643280" y="3760920"/>
            <a:ext cx="4500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 Narrow"/>
              </a:rPr>
              <a:t>Тенденции социального развития стран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Японии начала снижаться доля молодых и увеличиваться доля пожилых и старых возрастов (более 65 лет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альная угроза депопуля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ало постепенного снижения уровня безработицы в стран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т благосостояния граждан, связанный с повышением зарплаты и практическим отсутствием роста цен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больше расходов государства идет на здравоохранен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400"/>
                            </p:stCondLst>
                            <p:childTnLst>
                              <p:par>
                                <p:cTn id="2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400"/>
                            </p:stCondLst>
                            <p:childTnLst>
                              <p:par>
                                <p:cTn id="2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400"/>
                            </p:stCondLst>
                            <p:childTnLst>
                              <p:par>
                                <p:cTn id="2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7400"/>
                            </p:stCondLst>
                            <p:childTnLst>
                              <p:par>
                                <p:cTn id="2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400"/>
                            </p:stCondLst>
                            <p:childTnLst>
                              <p:par>
                                <p:cTn id="3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5040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Mistral"/>
              </a:rPr>
              <a:t>Коне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Географическое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олож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рритория 377 668 кв.к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оит из ок. 4000 остров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ые крупные острова – Хонсю, Кюсю, Сикоку и Хоккайд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рхипелаги Японский и Рюкю образуют островную дугу длиной 3,5 тыс. к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еет только морские границы, протяженность береговой линии 30 тыс. к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мывается водами Тихого океана, от материка отделена Охотским, Японским и Восточно-Китайским моря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лижайшие страны: Республика Корея, КНДР, Россия, Кита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4643280" cy="50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600"/>
                            </p:stCondLst>
                            <p:childTnLst>
                              <p:par>
                                <p:cTn id="2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50" autoRev="1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" dur="250" autoRev="1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" dur="250" autoRev="1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100"/>
                            </p:stCondLst>
                            <p:childTnLst>
                              <p:par>
                                <p:cTn id="3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250" autoRev="1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" dur="250" autoRev="1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" dur="250" autoRev="1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600"/>
                            </p:stCondLst>
                            <p:childTnLst>
                              <p:par>
                                <p:cTn id="3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50" autoRev="1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" dur="250" autoRev="1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250" autoRev="1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100"/>
                            </p:stCondLst>
                            <p:childTnLst>
                              <p:par>
                                <p:cTn id="4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50" autoRev="1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600"/>
                            </p:stCondLst>
                            <p:childTnLst>
                              <p:par>
                                <p:cTn id="4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50" autoRev="1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9" dur="250" autoRev="1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" dur="250" autoRev="1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100"/>
                            </p:stCondLst>
                            <p:childTnLst>
                              <p:par>
                                <p:cTn id="5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250" autoRev="1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" dur="250" autoRev="1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" dur="250" autoRev="1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600"/>
                            </p:stCondLst>
                            <p:childTnLst>
                              <p:par>
                                <p:cTn id="5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50" autoRev="1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9" dur="250" autoRev="1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" dur="250" autoRev="1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100"/>
                            </p:stCondLst>
                            <p:childTnLst>
                              <p:par>
                                <p:cTn id="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Mistral"/>
              </a:rPr>
              <a:t>Ресурс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1701720"/>
          <a:ext cx="9144000" cy="515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1720"/>
                    <a:ext cx="9144000" cy="51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-1584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84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Отраслевая структура ВВ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512720"/>
            <a:ext cx="914400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50"/>
                            </p:stCondLst>
                            <p:childTnLst>
                              <p:par>
                                <p:cTn id="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Товарный состав внешней торговли Япон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  <p:sp>
        <p:nvSpPr>
          <p:cNvPr id="58" name=""/>
          <p:cNvSpPr/>
          <p:nvPr/>
        </p:nvSpPr>
        <p:spPr>
          <a:xfrm>
            <a:off x="-264960" y="1138320"/>
            <a:ext cx="91440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264960" y="11383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-252360" y="2286000"/>
          <a:ext cx="9926280" cy="4572000"/>
        </p:xfrm>
        <a:graphic>
          <a:graphicData uri="http://schemas.openxmlformats.org/drawingml/2006/table">
            <a:tbl>
              <a:tblPr/>
              <a:tblGrid>
                <a:gridCol w="216000"/>
                <a:gridCol w="971028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-82440" y="1147680"/>
          <a:ext cx="9144000" cy="45529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55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0" y="1557360"/>
          <a:ext cx="9124920" cy="4657320"/>
        </p:xfrm>
        <a:graphic>
          <a:graphicData uri="http://schemas.openxmlformats.org/drawingml/2006/table">
            <a:tbl>
              <a:tblPr/>
              <a:tblGrid>
                <a:gridCol w="9124920"/>
              </a:tblGrid>
              <a:tr h="465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79280" y="1413000"/>
          <a:ext cx="8785440" cy="5445000"/>
        </p:xfrm>
        <a:graphic>
          <a:graphicData uri="http://schemas.openxmlformats.org/drawingml/2006/table">
            <a:tbl>
              <a:tblPr/>
              <a:tblGrid>
                <a:gridCol w="4749840"/>
                <a:gridCol w="1346400"/>
                <a:gridCol w="1344600"/>
                <a:gridCol w="1344600"/>
              </a:tblGrid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0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воль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ышленные полуфабрик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енное 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ьские товары кратковременного 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ьские товары длительного 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воль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ышленные полуфабрик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енное 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ьские товары кратковременного 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ьские товары длительного 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 Narrow"/>
              </a:rPr>
              <a:t>Тенденции экономического развития Япон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вольно продолжительный застой в экономической жизн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еличение в доле ВВП доходов от непроизводственной сфер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нос производства за пределы страны, чаще всего в развивающиеся стра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иливается транснационализация крупнейших компаний Япон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порт готовой промышленной продукции высоких технолог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я сырья, ввозимого в страну, имеет плавную тенденцию к снижени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я альтернативных источников энергии невелика, но имеет устойчивую тенденцию к рос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200"/>
                            </p:stCondLst>
                            <p:childTnLst>
                              <p:par>
                                <p:cTn id="13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200"/>
                            </p:stCondLst>
                            <p:childTnLst>
                              <p:par>
                                <p:cTn id="14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1200"/>
                            </p:stCondLst>
                            <p:childTnLst>
                              <p:par>
                                <p:cTn id="14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2200"/>
                            </p:stCondLst>
                            <p:childTnLst>
                              <p:par>
                                <p:cTn id="15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200"/>
                            </p:stCondLst>
                            <p:childTnLst>
                              <p:par>
                                <p:cTn id="16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200"/>
                            </p:stCondLst>
                            <p:childTnLst>
                              <p:par>
                                <p:cTn id="16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200"/>
                            </p:stCondLst>
                            <p:childTnLst>
                              <p:par>
                                <p:cTn id="17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99"/>
                </a:solidFill>
                <a:latin typeface="Mistral"/>
              </a:rPr>
              <a:t>Населе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4500720" cy="5013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00720" y="1844640"/>
            <a:ext cx="46432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00"/>
                            </p:stCondLst>
                            <p:childTnLst>
                              <p:par>
                                <p:cTn id="1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9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VER_0</cp:lastModifiedBy>
  <dcterms:modified xsi:type="dcterms:W3CDTF">2006-04-25T15:25:53Z</dcterms:modified>
  <cp:revision>16</cp:revision>
  <dc:subject/>
  <dc:title>PowerPoint Presentation</dc:title>
</cp:coreProperties>
</file>